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4BFC-CB91-4C9B-A33B-CC5A08F43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mall groups, describe a RCDS gradua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skills necessary to be successful in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people learn best?  When they are eng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 the new and the kn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students to be creative critical thinkers – we need to give them procedural knowledge on not what to think but how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 question: what does it mean to think well?  What does it mean to be sm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cog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hinkers are better students – draw the design on board with the connection to self reflection and perspective buil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– Process Continu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it – Use it on the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m do the activity on chart paper – be prepared to share your six step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he gets you chart paper or something and 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tudents thinking along a continuum – from literal to inferential to evalu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mean to understand something deeply?  Tie this to RCDS students becoming better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models – ways of thinking – thinking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students and better citizens – we need to help our students become better thin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of this quote?  What type of learning experiences does RCDS provide that promotes the mission and vi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assess students in relationship to the vision/mission/go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we know in relation to where we want to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stitutes a thinking curriculum? Commitment to knowledge, high thinking demand and active use of knowledge. The first is commitment to a knowledge 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46B-6FDD-41F5-8338-F25F7453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86A-AB2C-4E8D-9564-808A4BBD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220-B4BD-493D-A5D7-2A0661B3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BD43-34DB-4D4B-A6FB-8BB2DF42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BA8-0579-4F7D-A408-9D1CFAC3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42A-AE38-4EC3-A3CD-DCE7668F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624-0A83-4981-A3C0-C6766C85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406-7A32-4B7B-830F-6B725DBE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D91D-D34F-4FB7-8794-D79A35EF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E214-FBBF-426A-AF4B-F2299EEC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59A-A487-4049-BD84-7F0C364F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6CB-4AAA-472B-B388-EDD8D678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6722-C0FC-42CE-9B63-5F49AF612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Focus\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here is RCDS now and where are you going as a learning community in preparing students f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llege, careers and citizen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21st centur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ey Term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ter students, better thinkers, better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841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empus Sans ITC"/>
              </a:rPr>
              <a:t>Famous Quotes from Historical Fig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's one small step for man, one giant leap for mank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il Arm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so, my fellow Americans, ask not what your country can do for you; ask what you can do for your coun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ohn F. Kenn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look to a day when people will not be judged by the color of their skin, but by the content of their charac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tin Luther King, J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empus Sans ITC"/>
              </a:rPr>
              <a:t>Famous Quotes from Historical Fig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me liberty or give me dea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ck Hen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 could have convinced more slaves that they were slaves, I could have freed thousands mo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riet Tubm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only regret that I have but one life to lose for my coun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han Hal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000"/>
                </a:solidFill>
                <a:latin typeface="Tempus Sans ITC"/>
              </a:rPr>
              <a:t>Famous Quotes from Historical Figur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ried marijuana once. I did not inha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iam Clin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hard to fail, but it is worse never to have tried to succ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dore Roosev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609480"/>
            <a:ext cx="8458200" cy="46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How do we enhance knowled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he most straightforward way to enhance students’ academic background knowledge is to provide academically enriching experiences… I refer to such efforts as ‘direct approaches’… a direct approach to enhancing academic background knowledge is one that increases the variety and depth of              out-of-classroom experien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rzano, 2004, p. 14)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843680" y="4724280"/>
            <a:ext cx="1300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Thi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True education is to learn how to think, not what to think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rishnamu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95680" y="3657600"/>
            <a:ext cx="36576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Building Academic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Identify essential academic terms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r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 that have a high probabil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ing academic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a guaranteed, viabl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Use a research-based process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ing new terms and phr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empus Sans ITC"/>
              </a:rPr>
              <a:t>Characteristics of Direct Vocabulary I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rely on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represent knowledge of words in linguistic and non-linguistic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dual shaping of word meanings through multiple exp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ing word parts to enhance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ypes of words require different types of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discuss new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play with new vocabul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terms that have a high probability of enhancing academic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empus Sans ITC"/>
              </a:rPr>
              <a:t>6 Steps to Effective Vocabulary I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acher provides a description, explanation, or example of the new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restate the explanation of the new term in their ow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create a non-linguistic representation of the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periodically do activities that help them add to their knowledge of vocabulary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ally students are asked to discuss the terms with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ally students are involved in games that allow them to play with the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tep 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The teacher provides a description, explanation, or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s are not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critical features of the term that form the basis of the descri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ssociated with measur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ssociated with a specific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ssociated with cubic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tep 2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: Students restate the explanation of the new term in their own wor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make meaning by storing the definitions of terms in their long-term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must process new terms actively and repeate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cannot copy the teacher’s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construct their own explanation based on what the teacher has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“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re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space inside an object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onique, Grade 4, personal communication October 2006)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Rockland Country Day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Radicibus Fortibus Floremu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rom Strong Roots We Flouris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899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tep 3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: Students create a non-linguistic representation of the ter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take place immediately after students have generated their own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s can take the forms of graphic organizers, pictur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133720" y="5105520"/>
          <a:ext cx="4343400" cy="1177920"/>
        </p:xfrm>
        <a:graphic>
          <a:graphicData uri="http://schemas.openxmlformats.org/drawingml/2006/table">
            <a:tbl>
              <a:tblPr/>
              <a:tblGrid>
                <a:gridCol w="1031760"/>
                <a:gridCol w="1139760"/>
                <a:gridCol w="1085760"/>
                <a:gridCol w="1086120"/>
              </a:tblGrid>
              <a:tr h="118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6781680" y="5181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= 4 sq.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tep 4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: Students periodically do activities that help them add to their knowledge of vocabul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interact with vocabulary terms in many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ing, classifying, generating metaphors, generating ana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revise their initial descriptions using new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use information of word roots, prefixes and suffixes to deepen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tep 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Periodically students are asked to discuss terms with each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cher can pose questions to class and have students work in pairs or small groups to discuss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irs can consist of native English speakers and non-native English spe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for correct use of vocabulary to be practiced and mode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can confirm or discount initial descriptions or explanations of term – revise initial understa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tep 6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: Periodically students are involved in games that allow them to play with ter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have fun and experience terms in a new context and see them from a different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s involve tasks that challenge the student’s present understanding but still allow for control over the level of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ch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word walls in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Social Studies and Scienc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p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ouf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ber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iv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Math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x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inal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 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empus Sans ITC"/>
              </a:rPr>
              <a:t>Making “Student Proficiency” Happ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438280"/>
            <a:ext cx="80773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Profici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the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no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t, and can the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3429000"/>
            <a:ext cx="2514600" cy="1191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267080"/>
            <a:ext cx="3429000" cy="1191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re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5943600"/>
            <a:ext cx="2666880" cy="6426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895480" y="3581280"/>
            <a:ext cx="609840" cy="533520"/>
          </a:xfrm>
          <a:custGeom>
            <a:avLst/>
            <a:gdLst>
              <a:gd name="textAreaLeft" fmla="*/ 203400 w 609840"/>
              <a:gd name="textAreaRight" fmla="*/ 522360 w 60984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086600" y="5181480"/>
            <a:ext cx="609480" cy="533520"/>
          </a:xfrm>
          <a:custGeom>
            <a:avLst/>
            <a:gdLst>
              <a:gd name="textAreaLeft" fmla="*/ 203040 w 609480"/>
              <a:gd name="textAreaRight" fmla="*/ 522000 w 60948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2096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105520"/>
            <a:ext cx="3429000" cy="6426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05520" y="4343400"/>
            <a:ext cx="609480" cy="533520"/>
          </a:xfrm>
          <a:custGeom>
            <a:avLst/>
            <a:gdLst>
              <a:gd name="textAreaLeft" fmla="*/ 203040 w 609480"/>
              <a:gd name="textAreaRight" fmla="*/ 522000 w 60948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6172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. Ho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2193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0" lang="en-US" sz="3600" spc="-1" strike="noStrike">
                <a:solidFill>
                  <a:srgbClr val="333399"/>
                </a:solidFill>
                <a:latin typeface="Tempus Sans ITC"/>
              </a:rPr>
              <a:t>If she cannot learn the way we teach, we had better teach the way she can learn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-Robert B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19320" y="2819520"/>
            <a:ext cx="373356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empus Sans ITC"/>
              </a:rPr>
              <a:t>Forms of Identif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1612800"/>
          <a:ext cx="8124840" cy="5245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612800"/>
                    <a:ext cx="812484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99036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empus Sans ITC"/>
              </a:rPr>
              <a:t>Identifying Similarities &amp; 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Rounded MT Bold"/>
              </a:rPr>
              <a:t>Present students with explicit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eacher-directed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accompany presentation with rich discussion and inqui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results in more specific “homogeneous” 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Rounded MT Bold"/>
              </a:rPr>
              <a:t>Ask students to independently identify similarities an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tudent-directed approach w/o teacher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results in more divergent think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Rounded MT Bold"/>
              </a:rPr>
              <a:t>Represent similarities and differences in graphic or symbolic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Rounded MT Bold"/>
              </a:rPr>
              <a:t>Accomplish identification in a variety of ways with highly robus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630360"/>
            <a:ext cx="853452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eacher-Directed </a:t>
            </a:r>
            <a:r>
              <a:rPr b="0" lang="en-US" sz="2800" spc="-1" strike="noStrike">
                <a:solidFill>
                  <a:srgbClr val="000099"/>
                </a:solidFill>
                <a:latin typeface="Arial Rounded MT Bold"/>
              </a:rPr>
              <a:t>Comparison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esent highly structured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dentify items to be compared &amp; characteristics on which the comparison will be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asks focus on conclusion students are to r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R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al: all students attain same general awareness  of the same similarities &amp;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2520" y="159984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Rounded MT Bold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llow students select characteristics on which the items are to be compared (or both items &amp; characteris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asks give students autonomy to reach different 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R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al: all students attain general awareness  of varying similarities &amp;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04920"/>
            <a:ext cx="3962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udent-Directed </a:t>
            </a:r>
            <a:r>
              <a:rPr b="0" lang="en-US" sz="2800" spc="-1" strike="noStrike">
                <a:solidFill>
                  <a:srgbClr val="000099"/>
                </a:solidFill>
                <a:latin typeface="Arial Rounded MT Bold"/>
              </a:rPr>
              <a:t>Comparison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533520"/>
            <a:ext cx="0" cy="5715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371600"/>
            <a:ext cx="80769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Graphic Organizers for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523880"/>
            <a:ext cx="2666880" cy="2667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819520"/>
            <a:ext cx="2667240" cy="2666880"/>
          </a:xfrm>
          <a:prstGeom prst="ellipse">
            <a:avLst/>
          </a:prstGeom>
          <a:solidFill>
            <a:srgbClr val="0000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05320" y="2581200"/>
          <a:ext cx="6248160" cy="4276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581200"/>
                    <a:ext cx="624816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09480" y="563868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Ven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380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eacher-Directed </a:t>
            </a:r>
            <a:r>
              <a:rPr b="0" lang="en-US" sz="2800" spc="-1" strike="noStrike">
                <a:solidFill>
                  <a:srgbClr val="000099"/>
                </a:solidFill>
                <a:latin typeface="Arial Rounded MT Bold"/>
              </a:rPr>
              <a:t>Classification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447920"/>
            <a:ext cx="4038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esent highly structured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ive elements to classify &amp; categories into which they will be class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asks focus on conclusion students are to r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R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al: all students attain same general awareness  of the same similarities &amp;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60020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Rounded MT Bold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ive students items to classify but allow them to form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asks give students autonomy to reach different 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R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al: all students attain general awareness  of varying similarities &amp;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04920"/>
            <a:ext cx="3962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udent-Directed </a:t>
            </a:r>
            <a:r>
              <a:rPr b="0" lang="en-US" sz="2800" spc="-1" strike="noStrike">
                <a:solidFill>
                  <a:srgbClr val="000099"/>
                </a:solidFill>
                <a:latin typeface="Arial Rounded MT Bold"/>
              </a:rPr>
              <a:t>Classification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533520"/>
            <a:ext cx="0" cy="5715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371600"/>
            <a:ext cx="80769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Tempus Sans ITC"/>
              </a:rPr>
              <a:t>Focus\Go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here is RCDS now and where are you going as a learning community in preparing students f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llege, careers and citizen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21st centur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etter students, better thinkers, better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841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RCDS Vi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students thrive academically and socially through our commitment to focusing on the individ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365760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Mission State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land Country Day School brings forth the best in every student by knowing and educating each of them as an individual.  The pillars of our college preparatory program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ritical thinking, creative expression, and the cherishing of diver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  Our unique environment enables every child to thrive, both academically and soci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empus Sans ITC"/>
              </a:rPr>
              <a:t>Well-Rounded Educ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not a question of content versus skills – it’s about creating challenging, profoundly engaging, and authentic educational experiences that produce lifelong learn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H. Her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3886200"/>
            <a:ext cx="32148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8000"/>
                </a:solidFill>
                <a:latin typeface="Tempus Sans ITC"/>
              </a:rPr>
              <a:t>A Framework for Shared Goal Setting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19720" y="1371240"/>
            <a:ext cx="4114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Focus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create shared clarity of thought, direction, and purp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Reflection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learn from the past and identify ways of accomplishing go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Collaboration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come together to share knowledge and id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onzemius &amp; O’Ne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914400" y="2590920"/>
            <a:ext cx="3657600" cy="259056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743200" y="525780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entury Gothic"/>
                <a:ea typeface="Arial"/>
              </a:rPr>
              <a:t>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entury Gothic"/>
                <a:ea typeface="Arial"/>
              </a:rPr>
              <a:t>How will we get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143000" y="182880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entury Gothic"/>
                <a:ea typeface="Arial"/>
              </a:rPr>
              <a:t>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entury Gothic"/>
                <a:ea typeface="Arial"/>
              </a:rPr>
              <a:t>Where do we want to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52280" y="52578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entury Gothic"/>
                <a:ea typeface="Arial"/>
              </a:rPr>
              <a:t>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entury Gothic"/>
                <a:ea typeface="Arial"/>
              </a:rPr>
              <a:t>Where are we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empus Sans ITC"/>
              </a:rPr>
              <a:t>Features and Indicators of Academic Rig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Commitment to a Knowledge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empus Sans ITC"/>
              </a:rPr>
              <a:t>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High Thinki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empus Sans ITC"/>
              </a:rPr>
              <a:t>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Active Use of 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empus Sans ITC"/>
              </a:rPr>
              <a:t>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705720" y="4343400"/>
            <a:ext cx="18208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empus Sans ITC"/>
              </a:rPr>
              <a:t>Rigor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: </a:t>
            </a:r>
            <a:r>
              <a:rPr b="0" i="1" lang="en-US" sz="3600" spc="-1" strike="noStrike">
                <a:solidFill>
                  <a:srgbClr val="008000"/>
                </a:solidFill>
                <a:latin typeface="Tempus Sans ITC"/>
              </a:rPr>
              <a:t>Commitment to a Knowledge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At RCDS, we should have an articulated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curriculum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that avoids needless repetition, is 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instructionally 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organized around major concepts, and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assessments 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at are focused on the mastery of core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248520" y="4343400"/>
            <a:ext cx="21859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4:18:52Z</dcterms:created>
  <dc:creator>North Rockland High School</dc:creator>
  <dc:description/>
  <dc:language>en-US</dc:language>
  <cp:lastModifiedBy>North Rockland High School</cp:lastModifiedBy>
  <dcterms:modified xsi:type="dcterms:W3CDTF">2010-11-24T17:18:22Z</dcterms:modified>
  <cp:revision>4</cp:revision>
  <dc:subject/>
  <dc:title>Rockland Country Day School</dc:title>
</cp:coreProperties>
</file>